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68C-CF9B-4AA9-AB05-E42AB026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06B-A6CC-4BBA-95B6-D81890B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915-FB57-420B-BE5F-9885B25C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5C3-1102-43CA-A6EE-EAE6DBD2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0F65-8A2B-44E8-8986-5C84F738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8CC3-1DF3-4111-B56B-20B71BD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278-3DEF-4021-8339-B4A22C5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31C6-1316-4F56-8A8C-5FBE1FA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692E-76A5-4AA2-A08B-071692C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772-1387-4F78-96FF-6312F54A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6BB-0843-48F4-9521-0A99045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024-58FD-4251-9507-58131F6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7DEC-ED55-4418-BFDC-EA7366E2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7E12-1D9C-45A6-88DD-17231E3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902-95BE-49B6-B2F2-44659A5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AC6-DC2C-4217-9281-6194C140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C99-5CD5-4B76-9312-92A8AC5F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06F35-14E3-4D1A-9EE5-96607694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6C1F-A4CE-4065-B3C9-8A68337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E83B5-1498-4E9E-8AF4-C6C1393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3EE88-4587-4869-B818-25AD4B4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141E-EDE2-4211-9995-958AE62D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DED-2791-4664-8321-1066EB9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01056-D6DA-4DAE-AE9A-C54E568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E85EA-AA08-41FD-A63C-FCA4876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28928-0280-4DCA-934E-4750941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DD0E0-18DE-4578-B2E5-CF967D5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21443-1061-47B9-BF32-A719FD6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F23AF-1CFE-4D4F-BBD9-2E082A1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8AAF6-DD13-49CC-8541-88632A4F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B293-9B64-4E48-940F-D1EA26A8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2853-EDC8-4146-B8FE-0CB1B97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8BDF-7D50-47E2-AFB6-52B497D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649-B822-4FFD-B8C1-CCC9DFA6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EFBF-63C8-4739-908F-27D64A2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2FF6-FFB4-49D4-A751-ABA54A5E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5617-35CE-4CA1-969A-8D185397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33E5-01FA-48BB-A357-9971B7A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2FC4-1D82-4F27-A1FF-7E0A3FDC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C346-B11D-40DC-B8C1-59BFEC6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9651-950A-4E83-88E7-22D6C55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2E4A-DD2A-4E98-BD44-F4E2DC04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E2AB-FDF4-441D-8FC4-F85A9D6C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CF191-44F1-4D2C-8FB0-5E8463AB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6C5-DDC1-4EE2-9887-5CBAB98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7FFA6-7D9A-45AA-8914-B9CE95B4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9D5AF-4041-4243-AF19-2A689937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CEEAF-CDE2-4D78-A9B0-720BEEE1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6EC1B-092A-41FF-81D1-4CD6A4D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609E4-47F6-4042-90F6-4D9431F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904E0-A93C-47CF-840A-C9B97C6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6BF28-438A-4157-9700-AB459AB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81751-A7A1-4636-B782-D2E3374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8181E-42F7-429E-9B3C-4ED549B4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65295-3128-442A-B720-6914E481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C9B-36B5-4D36-A35A-F6BF2C6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567C3-07EC-4AB4-8860-AD822DE4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45B53-2AC2-40B3-AFEE-304F4063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073F5-018E-43C8-9F4C-7702217F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D9423-8CB1-4A12-8CB0-126695D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9C6CA-8B87-428C-837A-6FB5866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15711-974A-464C-81DC-EDC583CC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6949D-FF04-4318-920E-A2DAF7AF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FE100-164C-450E-921C-F025E3A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D5F0F-0417-450F-86D5-8270F1E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EC6FC-97CD-45AA-BDAC-C891780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8D3-6EB4-4A52-B2A7-CC39F89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5C14A-46D8-4761-8A24-1048F02D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EE468-B0AA-4A10-AC75-3226A17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4BBF2-9CFC-4E1F-97C4-6B26F0A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19194-17F2-41CC-9D4E-446C38C2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7ACDB-75EE-42B7-8ECE-D9E5996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3CA71F-5FA5-4E44-9941-3E58411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C9AB6-1E5D-4D0E-A768-970C105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48269-36B0-496D-BA44-B60341CD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BA68D-2B48-4B77-9C47-57CCEB6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B91C3-6C41-4D15-99D6-57B383D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C45-A8AF-4D70-A6D6-D3279B6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49EA3-D444-45B0-B6A9-36C5ECF8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80701-58E0-403A-BD43-2187C5D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7AF30-259D-4A30-BC0F-8A9DDF44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40F71-33BB-449F-A6B5-C138CFD7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3BDE3-2783-4167-8D5B-60F88A30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31B-F73F-44CA-A416-43E3B41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49E-987C-479C-96E5-15D497EE7C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34A9-9F86-4EF7-B599-06110F8717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43C-BEDC-40A7-910F-AAAA06ADBE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D70E-869C-47E0-BC01-A76B40975F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F77-A66F-4662-9A12-6D84DE166E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CD2D-3754-4B27-90A6-22BEC6B0C0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D49-DBE8-45B0-B633-6709FDE4C0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eacher-of-russia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АСТЕР-КЛА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ахомова Елена Михайловна, заведующая кабинетом педагогического опыта АПК иППР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078000" y="3208320"/>
            <a:ext cx="2225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Содержательный аспе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ущность предлагаемой проблем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идея реализации проблем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актуальность и нау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методическому и научному обобщ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2. Деятельностный аспе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приемы мотивации участников мастер-клас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распространению педагогического опы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технологи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оптимальность используемых средств решения пробл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3. Личностные качеств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импров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тепень воздействия на аудитор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эрудиц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тиль общ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артисти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общая культу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5f6d"/>
                </a:solidFill>
                <a:latin typeface="Century Schoolbook"/>
              </a:rPr>
              <a:t>ПОЛЕЗНЫЕ АДРЕСА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teacher-of-russia.r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69eab"/>
                </a:solidFill>
                <a:uFillTx/>
                <a:latin typeface="Century Schoolbook"/>
              </a:rPr>
              <a:t>http://apkpro.com/ikio/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0a80a"/>
                </a:solidFill>
                <a:latin typeface="Century Schoolbook"/>
              </a:rPr>
              <a:t>МАСТЕР-КЛАСС: ЧТО? ДЛЯ ЧЕГО? КАК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215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5f6d"/>
                </a:solidFill>
                <a:latin typeface="Century Schoolbook"/>
              </a:rPr>
              <a:t>ЧТО ТАКОЕ МАСТЕР-КЛАСС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5f6d"/>
                </a:solidFill>
                <a:latin typeface="Century Schoolbook"/>
              </a:rPr>
              <a:t>ИДЕЯ МАСТЕР-КЛАССА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заимообучен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заимосовершенствован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Я ЗНАЮ, КАК ЭТО ДЕЛАТЬ. Я НАУЧУ ВА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60" name="Содержимое 2"/>
          <p:cNvGrpSpPr/>
          <p:nvPr/>
        </p:nvGrpSpPr>
        <p:grpSpPr>
          <a:xfrm>
            <a:off x="298440" y="1511280"/>
            <a:ext cx="7791480" cy="5054760"/>
            <a:chOff x="298440" y="1511280"/>
            <a:chExt cx="7791480" cy="5054760"/>
          </a:xfrm>
        </p:grpSpPr>
        <p:pic>
          <p:nvPicPr>
            <p:cNvPr id="36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98440" y="1511280"/>
              <a:ext cx="7791480" cy="50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Мастер-класс — это двусторонний процесс: «преподаватель — слушатель»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Мастер: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показывает, включает в работу, просит повторить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Слушатель-участник МК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: выполняет предложенное, повторяет, предлагает свой способ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5f6d"/>
                </a:solidFill>
                <a:latin typeface="Century Schoolbook"/>
              </a:rPr>
              <a:t>МАСТЕР-КЛАСС – ЭТО…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РЕКОМЕНДАЦИИ ПО ПОДГОТОВКЕ МАСТЕР-КЛАСС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1.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3. Придумайте проблему, вопрос, парадокс, вводящие в вашу тему занятия и представляющие интерес для «учащихся»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РЕКОМЕНДАЦИИ ПО ПОДГОТОВКЕ МАСТЕР-КЛАСС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6. Включите фантазию, придумайте интересный замысел мастер-класс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7. Составьте подробный план заняти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8. Тщательно проверьте технику и работу микрофонов перед началом мастер-класс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9. Расставьте стулья, столы и доску так, как вам нужно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10. Когда все готово — дайте команду организаторам, что можно начинать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5:30Z</dcterms:created>
  <dc:creator>Пахомова</dc:creator>
  <dc:description/>
  <dc:language>en-US</dc:language>
  <cp:lastModifiedBy>Пахомова</cp:lastModifiedBy>
  <dcterms:modified xsi:type="dcterms:W3CDTF">2010-09-20T20:32:24Z</dcterms:modified>
  <cp:revision>8</cp:revision>
  <dc:subject/>
  <dc:title>Слайд 1</dc:title>
</cp:coreProperties>
</file>